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D915-0FFA-4A21-AB07-C666A8D9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19F-DDA5-4A51-BBBA-F7832EB2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3B0E3-6090-4EE1-8645-77C35F82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5E588-66A3-44D9-A3B0-763C91CC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8D588-142A-491B-926E-CDCD239F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F8522-A318-42F2-B4D8-9AC6C6CD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C57B5-8F63-4FB6-A86C-D06D1B5B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C25F9F-98D9-4A2D-BF01-E5F4C83F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C334B-C197-4D17-B771-70C6C4FA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551A50-CB1F-4929-AAE6-A7F5D00F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94988-4942-4F84-AD7D-91590923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872201-6B0D-4E64-81E6-D81D6EB7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587C-051D-4D7D-ADA1-FC155BA9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C86BD-4442-457E-B9CB-CD8484F3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EE4170-9EBC-40A6-8F2C-FB7BB00A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DD5D5-1513-4705-B82D-4C55DE3B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9CEFC-16AC-448C-83F9-5814CFE7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79910B-B107-4C17-A650-43A743FB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DDC4E2-C64D-4D52-BA12-1B8763B6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18C9D-7A06-4C73-B27C-4A84D9B0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83AF9-575A-44C5-80D1-948FCCDC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4C00E-1938-4452-B516-02E35C5C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A22F3-7829-4C4A-98A7-2AFFBB93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9CF8-1534-498F-87AF-C8C81D5E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58186-B137-49B0-8307-5B094D82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D71D3-C18D-446B-A658-B16F8B7C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1AF22-1B73-4DA3-9AB0-752242A1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25924-2E12-437A-8D8E-C5DD07D2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031C7-9825-402E-B41D-8E767E4A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2D35D-B110-494B-B0EA-AACF80D4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53C13-CD82-4E3D-9D85-C6B8929B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1425F-B1A0-4596-ABB2-E0B59D20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68683-F008-4860-97B8-CB238BB6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57C28-B9AB-49CF-A7C5-63055218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B11C-6DBF-4C64-8F0A-EA64CAAB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3F9E8-24BE-4B3F-9F7C-D33ED7E2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2969D-FE58-438D-8010-4BB78D01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8B503-9EA7-46A9-B653-B271718E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AC029-3A5F-4F79-BF5A-63A34EF8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902365-929A-4689-9943-AC8AEEE1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28A8AB-8C93-43EC-A053-8206E88E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6E8D40-9743-453A-A750-FF94D0E1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06F9D-557A-4661-BE5A-3A6FF72B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78855F-18A4-4D55-BF5E-8FF36EDC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B7925-ABCE-46C3-BACC-5276F5F3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D569-C457-4F8F-9B04-A81C29F7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7F9F3-E812-482C-B01B-21FC2321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A5A31C-6297-4902-A986-F787785E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19B6D5-31AC-4176-A993-46FF2728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81D1E4-A48F-4BD6-8A31-3B40B230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7496D5-A839-4B10-9805-96AAD7E4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3BA2-1D87-413B-8BC7-9221606C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3F63-650B-407C-BFB0-0B913720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8DC7-4116-4EA0-B2EA-6733A605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043A-4454-4E43-A1F7-23809A05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ED23-0939-4C3A-8FF9-8F9CD2FB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5DA-4159-41D7-A039-539A68BF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AACE-318D-414A-AE0A-92749292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A206-7D85-4108-A5EF-7A29C060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C2C2-0211-4C65-8A9C-C67466B6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2F4F-53EF-45E7-A7B1-0D8DFAFC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F034-9CB4-4B2D-95CD-5FDECD89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8E7F5-BDBA-481D-8599-23ED1B97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2AD38-E9E5-4D57-9ED0-0BC66CD8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3FBDF-AF45-47EA-8C33-67F9C589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D867A-A944-4BA2-A565-09183722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D1EFE-18A8-46A1-8076-B7D65BEE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D76-DEED-472E-9CD5-E3646F48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FB2D2-7A6F-4D4F-B98F-E93CAB2F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933DD-27F4-457B-8124-4D5152C0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69D3F-1516-4937-920F-5177944C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01EEF-BA9F-4E51-88F8-085C6A4D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9217D-BDA2-43AC-A5C6-E7154348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90254-2FAA-4A35-A810-3768F216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A4595-1CC9-4E00-ADC5-0D0330CB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05426-C1BF-4129-84E3-50AD3683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5D369-090C-46FF-9C4A-9014CA55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4A96E-D99F-44E0-A85B-0551885D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5DF-70CB-408E-ABFB-C56281B8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C8035-C5CB-413E-AB5D-D27B869D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0219C-9931-41B5-9AFE-A31BA0A5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65DA1-E89D-45CF-8C62-62357391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AE10C-66DB-4114-812A-3FEA3494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45C66-E544-4422-A42C-023A1113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CA242-E5BD-4E61-8C57-947FB408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1692F-8091-45FE-A784-1B265261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11D0B-D6FD-4445-9CB0-B4635B1F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E3E6D-859F-4648-BBE8-338C468D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3AC29-CDF0-46FA-9947-7A1830B8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DE9-DCBE-4DB9-B6B8-600D0C37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A9096-68D3-4B60-9954-C56CB5CA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F288C-CE3E-45A5-AE8E-19E394EB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06325-FD87-414F-B555-B2A4035D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4C85A-D2F3-4514-96D0-580878A3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4437B-B393-4372-95CE-AC8B888A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E2DA1-6D9E-4AF2-9133-89B9BC74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DB50A-4465-4DF4-9904-8032C921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7E6A4-B8DA-4C0A-86CB-86BF8BE9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D50A3-28DB-4DE3-977F-F7B2358A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A2588-F478-4761-A97C-775DAF02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813-0635-4123-BBDB-2F31B267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82AA3-FA94-4565-AE76-6B0827BA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85698-8BC7-423C-B958-F92A8239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6D2D1-4C56-495C-A0E7-76D3DBA7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876BB-2317-40FF-93DC-545439D8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C4032-54AF-4FB2-9EB7-1F483CE6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873E3-D89F-414B-A91A-090EEBC0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9980A-14BB-4026-B47D-85C84023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386B7-52EF-4C6D-8DFF-65EE47CB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0D577-CCE7-45BD-822F-74237978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A36BB-1AD6-44CE-8309-A430422B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65F0-ABD3-41BA-946E-FD82292C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EA31E-AE7C-4874-8433-18E891F6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9C613-E900-4545-B464-BF55B1EA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3CA62-D9C3-4A2E-9AC5-85517D35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A1BEE-B8EC-43CB-9D34-FE514A34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7DA0F-EC2D-4FD4-AF0D-6D55EE02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9E351-A7F5-40B5-A763-B52A0046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A2410-2884-4A2A-9093-7FBD129B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45291-0015-4452-A68A-A851C9D1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5F89D-52CA-4FF4-BFF7-D02457AF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A5199-14B9-4B3F-9E74-7D44C5B0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3C7-9730-454E-9FF2-655207C6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E4087-7336-47ED-98D3-8C6D6B20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8B1F8-407A-4B23-A4B1-25F1EE0F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330B0-60BF-4A24-B8A7-AF862888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DD9EA-17E2-4892-B060-1DCDE880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8F181-8775-4C71-8D18-3EEEAA8E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6B756-2209-477B-9AAB-A6393182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973E2-3B18-4264-8974-1DF39977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11527-7B29-4BA5-8D86-A4C2C2A0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8C829-DC01-40B8-A0BE-C128033C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ED30B-93CF-40E9-88DD-E87DB3C2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A46-D6A4-49D0-82D6-DAD0B4C5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EA778-78D4-4943-BBDB-63DFAFA7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08E1F-8283-4894-B212-31889B95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99718-07FF-4343-8DE2-3832E122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D18D9-E55B-4EFA-A15B-94668BDB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850E5-352C-4141-85E4-A18EB1A6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AA6DE-4113-4F85-B5F0-469CE12F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3FF6F-9B90-4FBA-9C59-C4E80D01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602E4-2440-4F31-9B2F-6CDEAC4B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2D9A3-7FC4-45D1-89A3-D27650A2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BF04B-F8EF-4212-940E-DC520B1E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14D0-57DE-433C-ADC9-20893152E27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0643-0849-42FA-8C42-634E461F952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003B-A28F-4B83-83CE-46873E5D210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EF5D-4EC1-4E47-89D3-17C521D5D1E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5DB0-C9A3-4CA4-97AD-160AA02D5A7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8C7F-79D6-49B2-87E5-9221C8EE89E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8042-6136-4A9E-A3EC-CFE854C249D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AE98-E2C0-47D9-838B-D91BAB7A1B9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9904-FA25-40C9-A653-EE19072AE48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28F9-618F-421F-BD5C-655609B5061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1CD9-C091-4CB8-B40B-F04E5CC9E33F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81A0-D54B-4ED0-A8CE-6B9BDCEBAFD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46b86"/>
                </a:solidFill>
                <a:latin typeface="Georgia"/>
              </a:rPr>
              <a:t>TWO SIDES TO THE SAME ARGU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The Big Debat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Summary of An Inconvenient Trut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lobal warming is caused by the greenhouse effect from man-made carbon dioxide in the atmospher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 evidence is found in ice-core samples, dating back 650,000 yea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It shows that when Carbon Dioxide levels increase, temperature increas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re is no disagreement between scientists, only in the popular press that Carbon Dioxide is linked to climate chang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If this theory was the only one available to you, what would you think causes global warming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he Great Global Warming Swind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4" descr="images.jpg"/>
          <p:cNvPicPr/>
          <p:nvPr/>
        </p:nvPicPr>
        <p:blipFill>
          <a:blip r:embed="rId1"/>
          <a:stretch/>
        </p:blipFill>
        <p:spPr>
          <a:xfrm>
            <a:off x="642960" y="1571760"/>
            <a:ext cx="3286080" cy="45939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his theory states that: -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Global warming is caused by solar activity which deflects cosmic rays from earth and decreases cloud cover”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louds and Cosmic Ray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GGWS clouds &amp; cosmic rays cartoon.wmv" descr=""/>
          <p:cNvPicPr/>
          <p:nvPr/>
        </p:nvPicPr>
        <p:blipFill>
          <a:blip r:embed="rId1"/>
          <a:stretch/>
        </p:blipFill>
        <p:spPr>
          <a:xfrm>
            <a:off x="142920" y="1614600"/>
            <a:ext cx="88581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Sort the cards in front of you to explain global warming by solar activity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emperature vs Solar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GGWS Temp vs Solar Activity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6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arbon Dioxide Lags Temperatu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1" name="GGWS CO2 lags temp.wmv" descr=""/>
          <p:cNvPicPr/>
          <p:nvPr/>
        </p:nvPicPr>
        <p:blipFill>
          <a:blip r:embed="rId1"/>
          <a:stretch/>
        </p:blipFill>
        <p:spPr>
          <a:xfrm>
            <a:off x="142920" y="1614600"/>
            <a:ext cx="88581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emperature vs CO2 and Solar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3" name="GGWS Temp vs CO2 and Solar Activity.wmv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8858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b9899"/>
                </a:solidFill>
                <a:latin typeface="Georgia"/>
              </a:rPr>
              <a:t>Summary of the Great Global Warming Swindle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lobal warming is caused by solar activity which deflects cosmic rays from earth and decreases cloud cov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When solar activity is high, temperature increas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 ice-core records show that Carbon Dioxide lags temperature by 800 yea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re is a direct relationship between temperature change and solar activity, but no real relationship between carbon dioxide and temperature chang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If this theory was the only one available to you, what would you think causes global warming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Why are we doing thi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Scientists do not always have the answers, and scientific data can be interpreted in a number of wa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lobal warming is a hotly debated topic, taking up many column inches every year in the popular press and in scientific journals, but there seems to be a disagreement about the fac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We are going to look at two arguments made on the causes of global warming, and see if we can make our own minds up on what one to believ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Ongoing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Throughout these video clips, make notes on the worksheet provided of anything you feel is relevant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Content Placeholder 4" descr="An-Inconvenient-Truth-HavenWorks-com-tv-blog.jpg"/>
          <p:cNvPicPr/>
          <p:nvPr/>
        </p:nvPicPr>
        <p:blipFill>
          <a:blip r:embed="rId1"/>
          <a:stretch/>
        </p:blipFill>
        <p:spPr>
          <a:xfrm>
            <a:off x="214200" y="1428840"/>
            <a:ext cx="4000680" cy="4681440"/>
          </a:xfrm>
          <a:prstGeom prst="rect">
            <a:avLst/>
          </a:prstGeom>
          <a:ln w="0">
            <a:noFill/>
          </a:ln>
        </p:spPr>
      </p:pic>
      <p:pic>
        <p:nvPicPr>
          <p:cNvPr id="614" name="Content Placeholder 5" descr="center_image.jpg"/>
          <p:cNvPicPr/>
          <p:nvPr/>
        </p:nvPicPr>
        <p:blipFill>
          <a:blip r:embed="rId2"/>
          <a:stretch/>
        </p:blipFill>
        <p:spPr>
          <a:xfrm>
            <a:off x="5105520" y="1428840"/>
            <a:ext cx="3824280" cy="4643280"/>
          </a:xfrm>
          <a:prstGeom prst="rect">
            <a:avLst/>
          </a:prstGeom>
          <a:ln w="0">
            <a:noFill/>
          </a:ln>
        </p:spPr>
      </p:pic>
      <p:pic>
        <p:nvPicPr>
          <p:cNvPr id="615" name="Rectangle 6" descr=""/>
          <p:cNvPicPr/>
          <p:nvPr/>
        </p:nvPicPr>
        <p:blipFill>
          <a:blip r:embed="rId3"/>
          <a:stretch/>
        </p:blipFill>
        <p:spPr>
          <a:xfrm>
            <a:off x="3773520" y="2895480"/>
            <a:ext cx="17683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An Inconvenient Trut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Content Placeholder 4" descr="enviro%20gore.jpg"/>
          <p:cNvPicPr/>
          <p:nvPr/>
        </p:nvPicPr>
        <p:blipFill>
          <a:blip r:embed="rId1"/>
          <a:stretch/>
        </p:blipFill>
        <p:spPr>
          <a:xfrm>
            <a:off x="608040" y="1517760"/>
            <a:ext cx="3425760" cy="438948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he theory put forward by the former vice president of the USA, Al Gore, states that:-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Global warming is caused by the greenhouse effect from man-made carbon dioxide in the atmosphere”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he Greenhouse Effe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AIT Greenhouse effect and cartoon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6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Sort the cards in front of you to explain the theory of man-made global warming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emperature vs Carbon Diox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AIT Temp vs CO2 from ice cores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6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Disagreement Amongst Scientist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AIT disagreement amongst scientists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" dur="1" fill="hold"/>
                                        <p:tgtEl>
                                          <p:spTgt spid="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9:13:42Z</dcterms:created>
  <dc:creator>Greenfaulds High</dc:creator>
  <dc:description/>
  <dc:language>en-US</dc:language>
  <cp:lastModifiedBy>Stephen Day</cp:lastModifiedBy>
  <dcterms:modified xsi:type="dcterms:W3CDTF">2009-08-25T08:00:22Z</dcterms:modified>
  <cp:revision>8</cp:revision>
  <dc:subject/>
  <dc:title>The Big Debate</dc:title>
</cp:coreProperties>
</file>